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885-0287-414B-AA94-1A7BF73B5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594A-4A4F-4298-8159-F5297E1CA9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177-984E-4F44-B766-B68B08673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0A21-AE01-414D-9B8D-9E91C5294C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1D1C-1D06-4A2A-A17A-8D80770FDA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B430-2E31-46C1-885A-DB36BD40BC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642C-3DAB-493C-9D70-355923947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812E-1875-47F3-BFC1-563E5AFEC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3551-B6FD-41A4-A86D-8719F0CF4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55EA-74F8-49CB-8EE9-8B7A33D0F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7E42-FF28-4673-BF17-EDAA7D4FF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F26-A8A9-49B7-975D-D8CB32E1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FE8-A7ED-407F-AB08-2381DF28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572-F1F7-4C5C-880E-C8DF7B88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ED7-22AA-44AA-8326-B32A05B7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A22-F247-44B6-9048-E97B739F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C9C-16AD-4499-84C4-22E25498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302-9D96-4EE8-8986-08C25633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296-AD54-4F52-9550-657566CC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C68-B923-4F85-85A6-36628E88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785-8940-4F17-BCEE-91CA1807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31F-08EF-4293-B1FB-730EE55C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931-B968-4543-A9DA-37C8C88E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571D-C171-4789-8935-590984CE5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how to say who owns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practise expressing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speed-date to revise describing your family and p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55640" y="2276640"/>
            <a:ext cx="7920000" cy="1630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Tienes animales a ca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engo…  no teng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5280" y="26028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how who owns something, a possessive adjective is used in front of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r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a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efan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/her /your (polite)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r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rtu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tort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ej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ur rab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ur (pl)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bal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4360" y="162864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ice how, in the example of nosotros, which is also the case for vosotros, there can be a masculine and feminin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ust agree with the gender of what is poss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sculin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minin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55640" y="1484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more than one of the object, add an s to the possessive ad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mis per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 rat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/hers / theirs / your (polite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B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with ratones above, some nouns add an –es to become plural. These are marked with a * on your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1773360"/>
            <a:ext cx="8209080" cy="2552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UCIALLY remember, there’s no apostrophe in Span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say Jamie’s pig, say el cerdo DE Ja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79280" y="189000"/>
            <a:ext cx="412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189000"/>
            <a:ext cx="4103640" cy="594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elep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sing) cow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olite, plural) m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l) d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sheep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l)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ha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sing) 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716360" y="260280"/>
            <a:ext cx="4176720" cy="5844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 per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g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uestros elef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cabal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us va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m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le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is rat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Vuestro p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uestra serp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ove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s carac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Vuestras pe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há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s le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55640" y="2276640"/>
            <a:ext cx="7920000" cy="2239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Tienes hermanos o herman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Te llevas bien con el / con ella / con ellos / con e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755640" y="2276640"/>
            <a:ext cx="7920000" cy="2239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uedes describir tu madre o tu pad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… / tien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2276640"/>
            <a:ext cx="7920000" cy="1630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er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1:10Z</dcterms:created>
  <dc:creator>Owner1</dc:creator>
  <dc:description/>
  <dc:language>en-US</dc:language>
  <cp:lastModifiedBy>Chris</cp:lastModifiedBy>
  <dcterms:modified xsi:type="dcterms:W3CDTF">2009-01-15T11:17:06Z</dcterms:modified>
  <cp:revision>15</cp:revision>
  <dc:subject/>
  <dc:title>Slide 1</dc:title>
</cp:coreProperties>
</file>